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0D55F-8D0F-47A5-AECF-582DC1FC8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7EC7A-8DC6-40FF-BA3E-F2A250AC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3BA60-B03C-4A86-9606-16C9CC1D6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98049-00E6-4C18-BF8B-36E446068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8718B-4A4C-4020-9D63-CB8811ACD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F1FE0-5CAB-4B31-B608-6C421D9B3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EF9B8-DB2C-4A4C-8DB3-DA286837A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69D4C-C041-44F3-8213-713574C49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C18FF-FF5E-47AD-B0F9-101F201B3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748D1-1271-4203-9584-980EBCC8A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792F-EBC9-4AC3-9DF0-C1ACC4C3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9000-343F-4443-9F3C-E3EEF6C4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536C1-030A-466A-8BDA-35B54AA46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77EBC-9972-46A2-81D3-A2E1CFF45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CF1AE-A0E7-4305-A727-014F9CF95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48F70-5109-4A00-A6AB-7133F3AE6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5468C-F666-40D3-9051-2BA3D8B32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84A3-1790-471E-B40E-5AA8513C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88A5-CC1D-426C-8536-CBF279A82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67C4-12CD-4F67-A428-50C6742FF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CCB2-831C-474E-9DD6-FF1EEE34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E4FF-9CC2-4321-8912-4181EF408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E5C3-0756-4F5B-B70F-923B53F60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4145-3464-4B55-A1F4-BD9B16568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99D0-DB95-463A-8647-84CB57EF42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12C5-1590-4E90-B3C9-75553A9C59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haracteristics of Gifted Students </a:t>
            </a:r>
            <a:endParaRPr b="1" lang="en-US" sz="4800" spc="-1" strike="noStrike">
              <a:solidFill>
                <a:srgbClr val="33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7" name="PlaceHolder 2"/>
          <p:cNvSpPr>
            <a:spLocks noGrp="1"/>
          </p:cNvSpPr>
          <p:nvPr>
            <p:ph/>
          </p:nvPr>
        </p:nvSpPr>
        <p:spPr>
          <a:xfrm>
            <a:off x="457200" y="1828440"/>
            <a:ext cx="8229600" cy="4411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
          <p:cNvSpPr/>
          <p:nvPr/>
        </p:nvSpPr>
        <p:spPr>
          <a:xfrm>
            <a:off x="304920" y="1905120"/>
            <a:ext cx="8458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its and behaviors listed on the previous slides are consistently observed in Gifted 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not likely any Gifted students will exhibit every trait listed, but rather will exhibit a combination of the traits lis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70" name="PlaceHolder 2"/>
          <p:cNvSpPr>
            <a:spLocks noGrp="1"/>
          </p:cNvSpPr>
          <p:nvPr>
            <p:ph/>
          </p:nvPr>
        </p:nvSpPr>
        <p:spPr>
          <a:xfrm>
            <a:off x="304560" y="1752120"/>
            <a:ext cx="8839080" cy="441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field of Gifted Education, there has been 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emphasis on identifying students who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been underrepresented in programs for</a:t>
            </a: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Populations of Gifted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ice-Exceptional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who underachiev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 to attribute success in school to hard work, rather than exceptional ability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more accurately identify gifted boys, compared to gifted girls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gifted females value their personal achievements even less as they get older (Reis &amp; Sullivan, 2009).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amp; Sullivan, Erin, E. (2009). Characteristics of gifted learners. In Karnes, Frances, A. &amp; Bean, Suzanne, M. (Eds.), </a:t>
            </a:r>
            <a:r>
              <a:rPr b="0" i="1" lang="en-US" sz="1000" spc="-1" strike="noStrike">
                <a:solidFill>
                  <a:srgbClr val="000000"/>
                </a:solidFill>
                <a:latin typeface="Arial"/>
              </a:rPr>
              <a:t>Methods and materials for teaching the gifted </a:t>
            </a:r>
            <a:r>
              <a:rPr b="0" lang="en-US" sz="1000" spc="-1" strike="noStrike">
                <a:solidFill>
                  <a:srgbClr val="000000"/>
                </a:solidFill>
                <a:latin typeface="Arial"/>
              </a:rPr>
              <a:t>(3-35).</a:t>
            </a:r>
            <a:r>
              <a:rPr b="0" i="1" lang="en-US" sz="1000" spc="-1" strike="noStrike">
                <a:solidFill>
                  <a:srgbClr val="000000"/>
                </a:solidFill>
                <a:latin typeface="Arial"/>
              </a:rPr>
              <a:t> </a:t>
            </a:r>
            <a:r>
              <a:rPr b="0" lang="en-US" sz="1000" spc="-1" strike="noStrike">
                <a:solidFill>
                  <a:srgbClr val="000000"/>
                </a:solidFill>
                <a:latin typeface="Arial"/>
              </a:rPr>
              <a:t>Waco, TX.</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2002). Social and emotional issues faced by gifted girls in elementary and secondary school. </a:t>
            </a:r>
            <a:r>
              <a:rPr b="0" i="1" lang="en-US" sz="1000" spc="-1" strike="noStrike">
                <a:solidFill>
                  <a:srgbClr val="000000"/>
                </a:solidFill>
                <a:latin typeface="Arial"/>
              </a:rPr>
              <a:t>SENG Newslsetter, 2</a:t>
            </a:r>
            <a:r>
              <a:rPr b="0" lang="en-US" sz="1000" spc="-1" strike="noStrike">
                <a:solidFill>
                  <a:srgbClr val="000000"/>
                </a:solidFill>
                <a:latin typeface="Arial"/>
              </a:rPr>
              <a:t>(3). 1-5. Retrieved from http://www.sengifted.org/archives/articles/social-and-emotional-issues-faced-by-gifted-girls-in-elementary-and-secondary-scho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ice-Exceptional Student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students are at risk for not being identified for either group because their abilities and disabilities often mask each other (Reis &amp; Sullivan, 2009).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nsistent academic performanc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self-esteem</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hort-term memory</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ocial skills</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ulsiv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6" name="PlaceHolder 2"/>
          <p:cNvSpPr>
            <a:spLocks noGrp="1"/>
          </p:cNvSpPr>
          <p:nvPr>
            <p:ph/>
          </p:nvPr>
        </p:nvSpPr>
        <p:spPr>
          <a:xfrm>
            <a:off x="457200" y="1676160"/>
            <a:ext cx="8229600" cy="491004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LD students are often underrepresented due to language barriers.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petional talents in areas valued by their culture</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interest in certain topics</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ckly grasps new information</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ist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ch imagination</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nebrenner, S. &amp; Brulles, D. (2008). The cluster grouping handbook. Minneapolis, MN: </a:t>
            </a:r>
            <a:endParaRPr b="0" lang="en-US" sz="12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Free Spirit Publishing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8"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achiever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se students have tremendous potential but do not perform at levels commensurate with their abilitie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low motiv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ly immatur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or self-regul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v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interests</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 failure</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racteristics of Gifted Students</a:t>
            </a:r>
            <a:endParaRPr b="1" lang="en-US" sz="3900" spc="-1" strike="noStrike">
              <a:solidFill>
                <a:srgbClr val="330066"/>
              </a:solidFill>
              <a:latin typeface="Arial"/>
            </a:endParaRPr>
          </a:p>
        </p:txBody>
      </p:sp>
      <p:sp>
        <p:nvSpPr>
          <p:cNvPr id="180" name="PlaceHolder 2"/>
          <p:cNvSpPr>
            <a:spLocks noGrp="1"/>
          </p:cNvSpPr>
          <p:nvPr>
            <p:ph/>
          </p:nvPr>
        </p:nvSpPr>
        <p:spPr>
          <a:xfrm>
            <a:off x="-360" y="1828800"/>
            <a:ext cx="8839080" cy="44877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is presentation, we have just scratched the surface when it comes to the traits and behaviors of Gifted student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its described in this presentation are not intended to be a checklist for identifying potentially Gifted students. Rather, the intention is to provide a brief overview of characteristics commonly found in Gifted students and to discuss how these traits may vary among special populations of Gifted students. </a:t>
            </a:r>
            <a:endParaRPr b="0" lang="en-US" sz="2600" spc="-1" strike="noStrike">
              <a:solidFill>
                <a:srgbClr val="000000"/>
              </a:solidFill>
              <a:latin typeface="Arial"/>
            </a:endParaRPr>
          </a:p>
        </p:txBody>
      </p:sp>
      <p:sp>
        <p:nvSpPr>
          <p:cNvPr id="181" name=""/>
          <p:cNvSpPr/>
          <p:nvPr/>
        </p:nvSpPr>
        <p:spPr>
          <a:xfrm>
            <a:off x="-1446120" y="-220680"/>
            <a:ext cx="183960" cy="54936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83" name="PlaceHolder 2"/>
          <p:cNvSpPr>
            <a:spLocks noGrp="1"/>
          </p:cNvSpPr>
          <p:nvPr>
            <p:ph/>
          </p:nvPr>
        </p:nvSpPr>
        <p:spPr>
          <a:xfrm>
            <a:off x="304920" y="1719360"/>
            <a:ext cx="861048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completing the remainder of Module On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ssion 3, please visit the Discussion Boar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nswer the following: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traits were you surprised to learn are associated with Giftedness? Which traits are most troublesome when exhibited in your classroom? How can you use the information about special populations to better serve the students in your classroo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54545"/>
                </a:solidFill>
                <a:latin typeface="Arial"/>
              </a:rPr>
              <a:t>There are several definitions of what is meant by the term “gifted”. </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Federal Definition: “Students, children, or youth who give evidence of high achievement capability in areas such as intellectual, creative, artistic, or leadership capacity, or in specific academic fields, and who need services and activities not ordinarily provided by the school in order to fully develop those capabilities.”</a:t>
            </a:r>
            <a:endParaRPr b="0" lang="en-US" sz="2500" spc="-1" strike="noStrike">
              <a:solidFill>
                <a:srgbClr val="000000"/>
              </a:solidFill>
              <a:latin typeface="Arial"/>
            </a:endParaRPr>
          </a:p>
        </p:txBody>
      </p:sp>
      <p:sp>
        <p:nvSpPr>
          <p:cNvPr id="151"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1905120"/>
            <a:ext cx="84582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ia Definition: “A student who demonstrates a high degree of intellectual and/or creative ability(ies), exhibits an exceptionally high degree of motivation, and/or excels in specific academic fields, and who needs special instruction and/or special ancillary services to achieve at levels commensurate with his or her abiliti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 students enter the Gifted Program in Georgia? </a:t>
            </a:r>
            <a:endParaRPr b="1" lang="en-US" sz="3900" spc="-1" strike="noStrike">
              <a:solidFill>
                <a:srgbClr val="330066"/>
              </a:solidFill>
              <a:latin typeface="Arial"/>
            </a:endParaRPr>
          </a:p>
        </p:txBody>
      </p:sp>
      <p:sp>
        <p:nvSpPr>
          <p:cNvPr id="155" name="PlaceHolder 2"/>
          <p:cNvSpPr>
            <a:spLocks noGrp="1"/>
          </p:cNvSpPr>
          <p:nvPr>
            <p:ph/>
          </p:nvPr>
        </p:nvSpPr>
        <p:spPr>
          <a:xfrm>
            <a:off x="228600" y="1752480"/>
            <a:ext cx="8686800" cy="48340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ccording to the State Board Rule 160-4-2-.38:</a:t>
            </a:r>
            <a:endParaRPr b="0" lang="en-US" sz="31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eligible for gifted education services, a student must either:</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t>
            </a:r>
            <a:r>
              <a:rPr b="0" lang="en-US" sz="2400" spc="-1" strike="noStrike">
                <a:solidFill>
                  <a:srgbClr val="000000"/>
                </a:solidFill>
                <a:latin typeface="Arial"/>
              </a:rPr>
              <a:t>a) score at the 99th percentile (for grades K-2) or the 96th percentile (for grades 3-12) on the composite or full scale score of a standardized test of mental ability and meet one of the achievement criteria described below, o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qualify through a multiple-criteria assessment process by meeting the criteria in any three of the following four areas: mental ability (intelligence), achievement, creativity, and motiva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7" name="PlaceHolder 2"/>
          <p:cNvSpPr>
            <a:spLocks noGrp="1"/>
          </p:cNvSpPr>
          <p:nvPr>
            <p:ph/>
          </p:nvPr>
        </p:nvSpPr>
        <p:spPr>
          <a:xfrm>
            <a:off x="228600" y="1828440"/>
            <a:ext cx="8610480" cy="4411800"/>
          </a:xfrm>
          <a:prstGeom prst="rect">
            <a:avLst/>
          </a:prstGeom>
          <a:noFill/>
          <a:ln w="0">
            <a:noFill/>
          </a:ln>
        </p:spPr>
        <p:txBody>
          <a:bodyPr lIns="90000" rIns="90000" tIns="46800" bIns="46800" anchor="t">
            <a:normAutofit fontScale="90000"/>
          </a:bodyPr>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Comic Sans MS"/>
              </a:rPr>
              <a:t>“</a:t>
            </a:r>
            <a:r>
              <a:rPr b="0" lang="en-US" sz="2600" spc="-1" strike="noStrike">
                <a:solidFill>
                  <a:srgbClr val="454545"/>
                </a:solidFill>
                <a:latin typeface="Comic Sans MS"/>
              </a:rPr>
              <a:t>Here's to the crazy ones, the misfits, the rebels, the troublemakers, the round pegs in the square holes... the ones who see things differently -- they're not fond of rules... You can quote them, disagree with them, glorify or vilify them, but the only thing you can't do is ignore them because they change things... they push the human race forward, and while some may see them as the crazy ones, we see genius, because the ones who are crazy enough to think that they can change the world, are the ones who do.”</a:t>
            </a:r>
            <a:endParaRPr b="0" lang="en-US" sz="2600" spc="-1" strike="noStrike">
              <a:solidFill>
                <a:srgbClr val="000000"/>
              </a:solidFill>
              <a:latin typeface="Arial"/>
            </a:endParaRPr>
          </a:p>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Arial"/>
              </a:rPr>
              <a:t>Steve Jobs</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9" name="PlaceHolder 2"/>
          <p:cNvSpPr>
            <a:spLocks noGrp="1"/>
          </p:cNvSpPr>
          <p:nvPr>
            <p:ph/>
          </p:nvPr>
        </p:nvSpPr>
        <p:spPr>
          <a:xfrm>
            <a:off x="228600" y="1719360"/>
            <a:ext cx="8686800" cy="441144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the previous quote remind you of anyone?</a:t>
            </a:r>
            <a:endParaRPr b="0" lang="en-US" sz="27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exhibit a diverse range of traits and behavio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traits are well-received by schools and society at-large, while other traits are frowned upon. </a:t>
            </a:r>
            <a:endParaRPr b="0" lang="en-US" sz="2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xt few slides contain a list of some common traits and behaviors of Gifted students. Of the traits listed, which are viewed most favorably in your classroom? </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ely curious about many thing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s and easily comprehends new material in shorter time than age peer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vocabulary for ag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with speed and understanding</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attention span</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prefers to work alon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ense of humor</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inebrenner, S. &amp; Brulles, D. (2008). The cluster grouping handbook. Minneapolis, MN: </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ree Spirit Publishing Inc.</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04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3" name="PlaceHolder 2"/>
          <p:cNvSpPr>
            <a:spLocks noGrp="1"/>
          </p:cNvSpPr>
          <p:nvPr>
            <p:ph/>
          </p:nvPr>
        </p:nvSpPr>
        <p:spPr>
          <a:xfrm>
            <a:off x="228600" y="182844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es more easily to older students or adults than to age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lays heightened levels of sensitivity and empathy regarding justice and fairnes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ssy; prefers to be in charg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hibits high expectations from others in their liv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ls the need to be perfect and first in all their endeavo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5" name="PlaceHolder 2"/>
          <p:cNvSpPr>
            <a:spLocks noGrp="1"/>
          </p:cNvSpPr>
          <p:nvPr>
            <p:ph/>
          </p:nvPr>
        </p:nvSpPr>
        <p:spPr>
          <a:xfrm>
            <a:off x="228600" y="198072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s intuitive leaps- does not need to follow step-by-step instruc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ble to multitask without losing focu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joys learning tasks that reflect depth, complexity, and novelty or other higher order thinking skil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es skepticism, criticism, and judgment of people and situation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7:08:08Z</dcterms:created>
  <dc:creator>Whitney Simmemon</dc:creator>
  <dc:description/>
  <dc:language>en-US</dc:language>
  <cp:lastModifiedBy>Whitney Simmemon</cp:lastModifiedBy>
  <dcterms:modified xsi:type="dcterms:W3CDTF">2012-02-26T21:01:48Z</dcterms:modified>
  <cp:revision>6</cp:revision>
  <dc:subject/>
  <dc:title>Characteristics of Gifted Students </dc:title>
</cp:coreProperties>
</file>