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CEABA-E703-43F7-A3AB-828280C34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27AF7-0890-4155-BF5C-B8D1384E6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9325C-2891-4B40-81A7-38EB73F54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7EB84-CB51-4CE1-BA37-7D2DDABD1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FFE50-8E36-4B8A-B25F-FA0D03F94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1B2C2-D0AD-4442-996A-0574CF850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53F17-22F7-402E-9ABA-9B2AB3887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5492A-7BDF-4451-AFCD-CE1D833D5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2FF80-19F1-4200-AF9F-89C82B557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72690-37C3-41C3-B860-EA13EC82E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571B9-F1B0-448D-ABF2-00881395F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7259D-3F84-432F-85B4-FE36F79B0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58684-F6C4-4FD7-A3F5-019C72EF7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64ACF-EA71-471D-BE58-583FC24C9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CD9BA-F07C-47C1-B240-F3FB193A9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FBC0E-541D-410B-A971-E090F29AD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09C11-B621-4A86-A003-EDA349028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CD45B-AB54-4441-B265-FC33CB333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5D98A-76CB-4D0B-A593-DB8471489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13627-4184-4259-AEC5-C309B439C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5F321-E8A1-44C5-96A0-8E0CC52BA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67FFD-B998-41EB-A997-47A84F1A9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42196-F6B8-40AB-9D68-A4365B430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B058-F2F5-4FB7-A6BA-54D4B17B2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6824-717D-479A-BD52-E0B2E60DBC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1FE8-DC69-48F6-8760-570F5E49C3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2160" y="609120"/>
            <a:ext cx="5715000" cy="18478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0066"/>
                </a:solidFill>
                <a:latin typeface="Abadi MT Condensed Extra Bold"/>
              </a:rPr>
              <a:t>What is Cluster Grouping?</a:t>
            </a:r>
            <a:endParaRPr b="1" lang="en-US" sz="66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Cluster Grouping?</a:t>
            </a:r>
            <a:endParaRPr b="1" lang="en-US" sz="3900" spc="-1" strike="noStrike">
              <a:solidFill>
                <a:srgbClr val="330066"/>
              </a:solidFill>
              <a:latin typeface="Arial"/>
            </a:endParaRPr>
          </a:p>
        </p:txBody>
      </p:sp>
      <p:sp>
        <p:nvSpPr>
          <p:cNvPr id="151" name="PlaceHolder 2"/>
          <p:cNvSpPr>
            <a:spLocks noGrp="1"/>
          </p:cNvSpPr>
          <p:nvPr>
            <p:ph/>
          </p:nvPr>
        </p:nvSpPr>
        <p:spPr>
          <a:xfrm>
            <a:off x="228240" y="1752480"/>
            <a:ext cx="8915400" cy="464832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 Grouping purposefully places a small group of Gifted and/or high-achieving students together in an otherwise heterogeneously mixed classroom (Gentry, 1999, p. 2).</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 grouping can be implemented school-wide, using the Schoolwide Cluster Grouping Model (SCGM)</a:t>
            </a:r>
            <a:endParaRPr b="0" lang="en-US" sz="22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SCGM, all students’ readiness levels are assessed.</a:t>
            </a:r>
            <a:endParaRPr b="0" lang="en-US" sz="21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 students are purposefully placed in classes based on their readiness levels. All classes contain at least three different student readiness levels ( Winebrenner &amp; Brulles, 2008, p. 14).</a:t>
            </a:r>
            <a:endParaRPr b="0" lang="en-US" sz="21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try, M. L. (1999). </a:t>
            </a:r>
            <a:r>
              <a:rPr b="0" lang="en-US" sz="1200" spc="-1" strike="noStrike">
                <a:solidFill>
                  <a:srgbClr val="000000"/>
                </a:solidFill>
                <a:latin typeface="Arial"/>
              </a:rPr>
              <a:t>Promoting Student Achievement and Exemplary Classroom Practices Through Cluster Grouping: A Research-Based Alternative to Heterogeneous Elementary Classrooms. Retrieved from </a:t>
            </a:r>
            <a:r>
              <a:rPr b="0" lang="en-US" sz="1200" spc="-1" strike="noStrike">
                <a:solidFill>
                  <a:srgbClr val="000000"/>
                </a:solidFill>
                <a:latin typeface="Arial"/>
              </a:rPr>
              <a:t>http://www.gifted.uconn.edu/nrcgt/reports/rm99138/rm99138.pdf</a:t>
            </a:r>
            <a:endParaRPr b="0" lang="en-US" sz="1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Cluster Group? </a:t>
            </a:r>
            <a:endParaRPr b="1" lang="en-US" sz="3900" spc="-1" strike="noStrike">
              <a:solidFill>
                <a:srgbClr val="330066"/>
              </a:solidFill>
              <a:latin typeface="Arial"/>
            </a:endParaRPr>
          </a:p>
        </p:txBody>
      </p:sp>
      <p:sp>
        <p:nvSpPr>
          <p:cNvPr id="153" name="PlaceHolder 2"/>
          <p:cNvSpPr>
            <a:spLocks noGrp="1"/>
          </p:cNvSpPr>
          <p:nvPr>
            <p:ph/>
          </p:nvPr>
        </p:nvSpPr>
        <p:spPr>
          <a:xfrm>
            <a:off x="228240" y="1719360"/>
            <a:ext cx="8915400" cy="441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ording to Winebrenner and Brulles (2008), when a group of Gifted students are purposefully placed together, the teacher is more likely to differentiate the curriculum in a manner commensurate with the students’ advanced learning needs (p. 5).</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ebrenner, S. &amp; Brulles, D. (2008). The cluster grouping handbook. Minneapolis, MN: Free Spirit Publishing Inc.</a:t>
            </a:r>
            <a:endParaRPr b="0" lang="en-US" sz="14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Cluster Group? </a:t>
            </a:r>
            <a:endParaRPr b="1" lang="en-US" sz="3900" spc="-1" strike="noStrike">
              <a:solidFill>
                <a:srgbClr val="330066"/>
              </a:solidFill>
              <a:latin typeface="Arial"/>
            </a:endParaRPr>
          </a:p>
        </p:txBody>
      </p:sp>
      <p:sp>
        <p:nvSpPr>
          <p:cNvPr id="155" name="PlaceHolder 2"/>
          <p:cNvSpPr>
            <a:spLocks noGrp="1"/>
          </p:cNvSpPr>
          <p:nvPr>
            <p:ph/>
          </p:nvPr>
        </p:nvSpPr>
        <p:spPr>
          <a:xfrm>
            <a:off x="228240" y="1719360"/>
            <a:ext cx="89154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stering students has the potential to reduce the range of student abilities/readiness levels in a given class (when using SCGM).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range of abilities in a classroom is reduced, teachers can more effectively differentiate the curriculum to challenge all learners.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Does Cluster Grouping Impact Student Achievement?</a:t>
            </a:r>
            <a:endParaRPr b="1" lang="en-US" sz="3900" spc="-1" strike="noStrike">
              <a:solidFill>
                <a:srgbClr val="330066"/>
              </a:solidFill>
              <a:latin typeface="Arial"/>
            </a:endParaRPr>
          </a:p>
        </p:txBody>
      </p:sp>
      <p:sp>
        <p:nvSpPr>
          <p:cNvPr id="157" name="PlaceHolder 2"/>
          <p:cNvSpPr>
            <a:spLocks noGrp="1"/>
          </p:cNvSpPr>
          <p:nvPr>
            <p:ph/>
          </p:nvPr>
        </p:nvSpPr>
        <p:spPr>
          <a:xfrm>
            <a:off x="152280" y="1752120"/>
            <a:ext cx="8763120" cy="4411800"/>
          </a:xfrm>
          <a:prstGeom prst="rect">
            <a:avLst/>
          </a:prstGeom>
          <a:noFill/>
          <a:ln w="0">
            <a:noFill/>
          </a:ln>
        </p:spPr>
        <p:txBody>
          <a:bodyPr lIns="90000" rIns="90000" tIns="46800" bIns="46800" anchor="t">
            <a:normAutofit fontScale="93000"/>
          </a:bodyPr>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nefits to Gifted Students:</a:t>
            </a:r>
            <a:endParaRPr b="0" lang="en-US" sz="3400" spc="-1" strike="noStrike">
              <a:solidFill>
                <a:srgbClr val="000000"/>
              </a:solidFill>
              <a:latin typeface="Arial"/>
            </a:endParaRPr>
          </a:p>
          <a:p>
            <a:pPr marL="318960" indent="-31896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ly challenged in all classes</a:t>
            </a:r>
            <a:endParaRPr b="0" lang="en-US" sz="28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le opportunity to work with intellectual peers in pursuing challenging coursework </a:t>
            </a:r>
            <a:endParaRPr b="0" lang="en-US" sz="28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e more willing to take academic risks because they are paired with other Gifted students</a:t>
            </a:r>
            <a:r>
              <a:rPr b="0" lang="en-US" sz="2600" spc="-1" strike="noStrike">
                <a:solidFill>
                  <a:srgbClr val="000000"/>
                </a:solidFill>
                <a:latin typeface="Arial"/>
              </a:rPr>
              <a:t> </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Does Cluster Grouping Impact Student Achievement?</a:t>
            </a:r>
            <a:endParaRPr b="1" lang="en-US" sz="3900" spc="-1" strike="noStrike">
              <a:solidFill>
                <a:srgbClr val="330066"/>
              </a:solidFill>
              <a:latin typeface="Arial"/>
            </a:endParaRPr>
          </a:p>
        </p:txBody>
      </p:sp>
      <p:sp>
        <p:nvSpPr>
          <p:cNvPr id="159" name="PlaceHolder 2"/>
          <p:cNvSpPr>
            <a:spLocks noGrp="1"/>
          </p:cNvSpPr>
          <p:nvPr>
            <p:ph/>
          </p:nvPr>
        </p:nvSpPr>
        <p:spPr>
          <a:xfrm>
            <a:off x="228600" y="1676520"/>
            <a:ext cx="8686800" cy="441144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nefits to non-Gifted Students:</a:t>
            </a:r>
            <a:endParaRPr b="0" lang="en-US" sz="34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udents from all ability levels benefit when teachers differentiate curriculum.</a:t>
            </a:r>
            <a:endParaRPr b="0" lang="en-US" sz="25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le gifted students are engaged in independent work, the teacher is freed up to spend more time with students who need more direct attention.</a:t>
            </a:r>
            <a:endParaRPr b="0" lang="en-US" sz="25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asses without a gifted cluster see other students take on leadership roles. </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Grouping and Differentiation</a:t>
            </a:r>
            <a:endParaRPr b="1" lang="en-US" sz="3900" spc="-1" strike="noStrike">
              <a:solidFill>
                <a:srgbClr val="330066"/>
              </a:solidFill>
              <a:latin typeface="Arial"/>
            </a:endParaRPr>
          </a:p>
        </p:txBody>
      </p:sp>
      <p:sp>
        <p:nvSpPr>
          <p:cNvPr id="161" name="PlaceHolder 2"/>
          <p:cNvSpPr>
            <a:spLocks noGrp="1"/>
          </p:cNvSpPr>
          <p:nvPr>
            <p:ph/>
          </p:nvPr>
        </p:nvSpPr>
        <p:spPr>
          <a:xfrm>
            <a:off x="456840" y="1719360"/>
            <a:ext cx="8534520" cy="441144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ccess of Cluster Grouping is contingent upon curriculum differentiation.</a:t>
            </a:r>
            <a:endParaRPr b="0" lang="en-US" sz="2600" spc="-1" strike="noStrike">
              <a:solidFill>
                <a:srgbClr val="000000"/>
              </a:solidFill>
              <a:latin typeface="Arial"/>
            </a:endParaRPr>
          </a:p>
          <a:p>
            <a:pPr marL="3358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5880" indent="-3358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ording to Winebrenner and Brulles (2008), differentiation activities should be open to ALL students in the class (p. 20).</a:t>
            </a:r>
            <a:endParaRPr b="0" lang="en-US" sz="2600" spc="-1" strike="noStrike">
              <a:solidFill>
                <a:srgbClr val="000000"/>
              </a:solidFill>
              <a:latin typeface="Arial"/>
            </a:endParaRPr>
          </a:p>
          <a:p>
            <a:pPr marL="3358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5880" indent="-3358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ers can use pre-tests or other forms of assessment to determine which students are ready for extension activities and which students need more work with a given concept. </a:t>
            </a:r>
            <a:endParaRPr b="0" lang="en-US" sz="26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1920" y="228600"/>
            <a:ext cx="8001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Grouping and Differentiation</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ve Elements of Differentiation</a:t>
            </a:r>
            <a:endParaRPr b="0" lang="en-US" sz="3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en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ing Environmen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ment</a:t>
            </a: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ion</a:t>
            </a:r>
            <a:endParaRPr b="1" lang="en-US" sz="3900" spc="-1" strike="noStrike">
              <a:solidFill>
                <a:srgbClr val="330066"/>
              </a:solidFill>
              <a:latin typeface="Arial"/>
            </a:endParaRPr>
          </a:p>
        </p:txBody>
      </p:sp>
      <p:sp>
        <p:nvSpPr>
          <p:cNvPr id="165" name="PlaceHolder 2"/>
          <p:cNvSpPr>
            <a:spLocks noGrp="1"/>
          </p:cNvSpPr>
          <p:nvPr>
            <p:ph/>
          </p:nvPr>
        </p:nvSpPr>
        <p:spPr>
          <a:xfrm>
            <a:off x="228240" y="1676520"/>
            <a:ext cx="8915400" cy="441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he wiki, please respond to the following prompt: </a:t>
            </a:r>
            <a:endParaRPr b="0" lang="en-US" sz="3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search shows teachers are more likely to differentiate curriculum when Gifted students are grouped together in an otherwise heterogeneously mixed class. Do you agree with this assertion? Would you be interested in implementing the Schoolwide Cluster Model? Why or why no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5T15:03:06Z</dcterms:created>
  <dc:creator>Whitney Simmemon</dc:creator>
  <dc:description/>
  <dc:language>en-US</dc:language>
  <cp:lastModifiedBy>Whitney Simmemon</cp:lastModifiedBy>
  <dcterms:modified xsi:type="dcterms:W3CDTF">2012-02-05T19:59:57Z</dcterms:modified>
  <cp:revision>3</cp:revision>
  <dc:subject/>
  <dc:title>What is Cluster Grouping?</dc:title>
</cp:coreProperties>
</file>