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53B35F-5764-44E3-97B4-17DC2A8D2D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CD452-AF93-4190-96C4-19C2F7A2A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BC03D1-7482-4DCF-8CD0-C8860CB112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7E8ADB-E4B5-469E-81B9-3B70F65791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305EA7-A1C1-4976-9CFC-00C2F75445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D18A40-B46D-4A23-82B6-4B6C1D2A34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5C2EF3-45F1-4853-B38C-9AA84EF19C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997A3E-C89F-488A-860E-1B8A9211FF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C3B65F-2BD7-4516-920D-AFF9BBC6C8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59181A-9EF7-44A8-A29F-21F5CA4533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E4C0AC-35C4-405B-99C1-D8C881810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16F13-CC78-41A2-B0A3-643698798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E832C-C8D4-494F-A45F-CBAE51E97D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BD2924-05CF-4887-9D4D-F54435F14F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8963A3-5626-4BEA-BC2F-F16A4C3919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5C1202-3668-44D9-B16D-A5289EDC1E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17A7F7-73D9-4AE5-8B2C-5044BBD768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13EB7-DFCC-4D3D-B456-6635A7E7A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841BD-9B76-4FE1-BEEE-F417D61C5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01FF7-07AA-416F-819D-7E1B90907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452F7-B9AB-4E0C-BC6D-0496C0734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7252F-6691-4EBF-BC94-FF60EABD8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F48B1-FF90-409D-B0E7-9BE9041D2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492C9-8E6E-4A7B-B88F-451FCA4041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3FC5E-557C-41A8-9F0E-C7AB581EAA1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4AFF7-1B36-42D9-ACD6-5E589C82C94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2160" y="609120"/>
            <a:ext cx="5715000" cy="184788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0066"/>
                </a:solidFill>
                <a:latin typeface="Abadi MT Condensed Extra Bold"/>
              </a:rPr>
              <a:t>What is Cluster Grouping?</a:t>
            </a:r>
            <a:endParaRPr b="1" lang="en-US" sz="66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hat is Cluster Grouping?</a:t>
            </a:r>
            <a:endParaRPr b="1" lang="en-US" sz="3900" spc="-1" strike="noStrike">
              <a:solidFill>
                <a:srgbClr val="330066"/>
              </a:solidFill>
              <a:latin typeface="Arial"/>
            </a:endParaRPr>
          </a:p>
        </p:txBody>
      </p:sp>
      <p:sp>
        <p:nvSpPr>
          <p:cNvPr id="151" name="PlaceHolder 2"/>
          <p:cNvSpPr>
            <a:spLocks noGrp="1"/>
          </p:cNvSpPr>
          <p:nvPr>
            <p:ph/>
          </p:nvPr>
        </p:nvSpPr>
        <p:spPr>
          <a:xfrm>
            <a:off x="228240" y="1752480"/>
            <a:ext cx="8915400" cy="4648320"/>
          </a:xfrm>
          <a:prstGeom prst="rect">
            <a:avLst/>
          </a:prstGeom>
          <a:noFill/>
          <a:ln w="0">
            <a:noFill/>
          </a:ln>
        </p:spPr>
        <p:txBody>
          <a:bodyPr lIns="90000" rIns="90000" tIns="46800" bIns="46800"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uster Grouping purposefully places a small group of Gifted and/or high-achieving students together in an otherwise heterogeneously mixed classroom (Gentry, 1999, p. 2).</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uster grouping can be implemented school-wide, using the Schoolwide Cluster Grouping Model (SCGM)</a:t>
            </a:r>
            <a:endParaRPr b="0" lang="en-US" sz="2200" spc="-1" strike="noStrike">
              <a:solidFill>
                <a:srgbClr val="000000"/>
              </a:solidFill>
              <a:latin typeface="Arial"/>
            </a:endParaRPr>
          </a:p>
          <a:p>
            <a:pPr lvl="1" marL="692280" indent="-347760">
              <a:lnSpc>
                <a:spcPct val="90000"/>
              </a:lnSpc>
              <a:spcBef>
                <a:spcPts val="5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ccording to SCGM, all students’ readiness levels are assessed.</a:t>
            </a:r>
            <a:endParaRPr b="0" lang="en-US" sz="2100" spc="-1" strike="noStrike">
              <a:solidFill>
                <a:srgbClr val="000000"/>
              </a:solidFill>
              <a:latin typeface="Arial"/>
            </a:endParaRPr>
          </a:p>
          <a:p>
            <a:pPr lvl="1" marL="692280" indent="-347760">
              <a:lnSpc>
                <a:spcPct val="90000"/>
              </a:lnSpc>
              <a:spcBef>
                <a:spcPts val="5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ll students are purposefully placed in classes based on their readiness levels. All classes contain at least three different student readiness levels ( Winebrenner &amp; Brulles, 2008, p. 14).</a:t>
            </a:r>
            <a:endParaRPr b="0" lang="en-US" sz="21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try, M. L. (1999). </a:t>
            </a:r>
            <a:r>
              <a:rPr b="0" lang="en-US" sz="1200" spc="-1" strike="noStrike">
                <a:solidFill>
                  <a:srgbClr val="000000"/>
                </a:solidFill>
                <a:latin typeface="Arial"/>
              </a:rPr>
              <a:t>Promoting Student Achievement and Exemplary Classroom Practices Through Cluster Grouping: A Research-Based Alternative to Heterogeneous Elementary Classrooms. Retrieved from </a:t>
            </a:r>
            <a:r>
              <a:rPr b="0" lang="en-US" sz="1200" spc="-1" strike="noStrike">
                <a:solidFill>
                  <a:srgbClr val="000000"/>
                </a:solidFill>
                <a:latin typeface="Arial"/>
              </a:rPr>
              <a:t>http://www.gifted.uconn.edu/nrcgt/reports/rm99138/rm99138.pdf</a:t>
            </a:r>
            <a:endParaRPr b="0" lang="en-US" sz="1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ebrenner, S. &amp; Brulles, D. (2008). The cluster grouping handbook. Minneapolis, MN: Free Spirit Publishing Inc.</a:t>
            </a:r>
            <a:endParaRPr b="0" lang="en-US" sz="1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hy Cluster Group? </a:t>
            </a:r>
            <a:endParaRPr b="1" lang="en-US" sz="3900" spc="-1" strike="noStrike">
              <a:solidFill>
                <a:srgbClr val="330066"/>
              </a:solidFill>
              <a:latin typeface="Arial"/>
            </a:endParaRPr>
          </a:p>
        </p:txBody>
      </p:sp>
      <p:sp>
        <p:nvSpPr>
          <p:cNvPr id="153" name="PlaceHolder 2"/>
          <p:cNvSpPr>
            <a:spLocks noGrp="1"/>
          </p:cNvSpPr>
          <p:nvPr>
            <p:ph/>
          </p:nvPr>
        </p:nvSpPr>
        <p:spPr>
          <a:xfrm>
            <a:off x="228240" y="1719360"/>
            <a:ext cx="8915400" cy="441144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ording to Winebrenner and Brulles (2008), when a group of Gifted students are purposefully placed together, the teacher is more likely to differentiate the curriculum in a manner commensurate with the students’ advanced learning needs (p. 5).</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nebrenner, S. &amp; Brulles, D. (2008). The cluster grouping handbook. Minneapolis, MN: Free Spirit Publishing Inc.</a:t>
            </a:r>
            <a:endParaRPr b="0" lang="en-US" sz="14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hy Cluster Group? </a:t>
            </a:r>
            <a:endParaRPr b="1" lang="en-US" sz="3900" spc="-1" strike="noStrike">
              <a:solidFill>
                <a:srgbClr val="330066"/>
              </a:solidFill>
              <a:latin typeface="Arial"/>
            </a:endParaRPr>
          </a:p>
        </p:txBody>
      </p:sp>
      <p:sp>
        <p:nvSpPr>
          <p:cNvPr id="155" name="PlaceHolder 2"/>
          <p:cNvSpPr>
            <a:spLocks noGrp="1"/>
          </p:cNvSpPr>
          <p:nvPr>
            <p:ph/>
          </p:nvPr>
        </p:nvSpPr>
        <p:spPr>
          <a:xfrm>
            <a:off x="228240" y="1719360"/>
            <a:ext cx="89154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ustering students has the potential to reduce the range of student abilities/readiness levels in a given class (when using SCGM). </a:t>
            </a: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the range of abilities in a classroom is reduced, teachers can more effectively differentiate the curriculum to challenge all learners. </a:t>
            </a: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ebrenner, S. &amp; Brulles, D. (2008). The cluster grouping handbook. Minneapolis, MN: Free Spirit Publishing Inc.</a:t>
            </a:r>
            <a:endParaRPr b="0" lang="en-US" sz="12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How Does Cluster Grouping Impact Student Achievement?</a:t>
            </a:r>
            <a:endParaRPr b="1" lang="en-US" sz="3900" spc="-1" strike="noStrike">
              <a:solidFill>
                <a:srgbClr val="330066"/>
              </a:solidFill>
              <a:latin typeface="Arial"/>
            </a:endParaRPr>
          </a:p>
        </p:txBody>
      </p:sp>
      <p:sp>
        <p:nvSpPr>
          <p:cNvPr id="157" name="PlaceHolder 2"/>
          <p:cNvSpPr>
            <a:spLocks noGrp="1"/>
          </p:cNvSpPr>
          <p:nvPr>
            <p:ph/>
          </p:nvPr>
        </p:nvSpPr>
        <p:spPr>
          <a:xfrm>
            <a:off x="152280" y="1752120"/>
            <a:ext cx="8763120" cy="4411800"/>
          </a:xfrm>
          <a:prstGeom prst="rect">
            <a:avLst/>
          </a:prstGeom>
          <a:noFill/>
          <a:ln w="0">
            <a:noFill/>
          </a:ln>
        </p:spPr>
        <p:txBody>
          <a:bodyPr lIns="90000" rIns="90000" tIns="46800" bIns="46800" anchor="t">
            <a:normAutofit fontScale="93000"/>
          </a:bodyPr>
          <a:p>
            <a:pPr marL="31896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enefits to Gifted Students:</a:t>
            </a:r>
            <a:endParaRPr b="0" lang="en-US" sz="3400" spc="-1" strike="noStrike">
              <a:solidFill>
                <a:srgbClr val="000000"/>
              </a:solidFill>
              <a:latin typeface="Arial"/>
            </a:endParaRPr>
          </a:p>
          <a:p>
            <a:pPr marL="318960" indent="-31896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stently challenged in all classes</a:t>
            </a:r>
            <a:endParaRPr b="0" lang="en-US" sz="2800" spc="-1" strike="noStrike">
              <a:solidFill>
                <a:srgbClr val="000000"/>
              </a:solidFill>
              <a:latin typeface="Arial"/>
            </a:endParaRPr>
          </a:p>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ple opportunity to work with intellectual peers in pursuing challenging coursework </a:t>
            </a:r>
            <a:endParaRPr b="0" lang="en-US" sz="2800" spc="-1" strike="noStrike">
              <a:solidFill>
                <a:srgbClr val="000000"/>
              </a:solidFill>
              <a:latin typeface="Arial"/>
            </a:endParaRPr>
          </a:p>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ome more willing to take academic risks because they are paired with other Gifted students</a:t>
            </a:r>
            <a:r>
              <a:rPr b="0" lang="en-US" sz="2600" spc="-1" strike="noStrike">
                <a:solidFill>
                  <a:srgbClr val="000000"/>
                </a:solidFill>
                <a:latin typeface="Arial"/>
              </a:rPr>
              <a:t> </a:t>
            </a:r>
            <a:endParaRPr b="0" lang="en-US" sz="2600" spc="-1" strike="noStrike">
              <a:solidFill>
                <a:srgbClr val="000000"/>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8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8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8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ebrenner, S. &amp; Brulles, D. (2008). The cluster grouping handbook. Minneapolis, MN: Free Spirit Publishing Inc.</a:t>
            </a:r>
            <a:endParaRPr b="0" lang="en-US" sz="1200" spc="-1" strike="noStrike">
              <a:solidFill>
                <a:srgbClr val="000000"/>
              </a:solidFill>
              <a:latin typeface="Arial"/>
            </a:endParaRPr>
          </a:p>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How Does Cluster Grouping Impact Student Achievement?</a:t>
            </a:r>
            <a:endParaRPr b="1" lang="en-US" sz="3900" spc="-1" strike="noStrike">
              <a:solidFill>
                <a:srgbClr val="330066"/>
              </a:solidFill>
              <a:latin typeface="Arial"/>
            </a:endParaRPr>
          </a:p>
        </p:txBody>
      </p:sp>
      <p:sp>
        <p:nvSpPr>
          <p:cNvPr id="159" name="PlaceHolder 2"/>
          <p:cNvSpPr>
            <a:spLocks noGrp="1"/>
          </p:cNvSpPr>
          <p:nvPr>
            <p:ph/>
          </p:nvPr>
        </p:nvSpPr>
        <p:spPr>
          <a:xfrm>
            <a:off x="228600" y="1676520"/>
            <a:ext cx="8686800" cy="4411440"/>
          </a:xfrm>
          <a:prstGeom prst="rect">
            <a:avLst/>
          </a:prstGeom>
          <a:noFill/>
          <a:ln w="0">
            <a:noFill/>
          </a:ln>
        </p:spPr>
        <p:txBody>
          <a:bodyPr lIns="90000" rIns="90000" tIns="46800" bIns="46800" anchor="t">
            <a:normAutofit/>
          </a:bodyPr>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enefits to non-Gifted Students:</a:t>
            </a:r>
            <a:endParaRPr b="0" lang="en-US" sz="3400" spc="-1" strike="noStrike">
              <a:solidFill>
                <a:srgbClr val="000000"/>
              </a:solidFill>
              <a:latin typeface="Arial"/>
            </a:endParaRPr>
          </a:p>
          <a:p>
            <a:pPr marL="343080" indent="-3430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udents from all ability levels benefit when teachers differentiate curriculum.</a:t>
            </a:r>
            <a:endParaRPr b="0" lang="en-US" sz="25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ile gifted students are engaged in independent work, the teacher is freed up to spend more time with students who need more direct attention.</a:t>
            </a:r>
            <a:endParaRPr b="0" lang="en-US" sz="25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lasses without a gifted cluster see other students take on leadership roles. </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ebrenner, S. &amp; Brulles, D. (2008). The cluster grouping handbook. Minneapolis, MN: Free Spirit Publishing Inc.</a:t>
            </a:r>
            <a:endParaRPr b="0" lang="en-US" sz="12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uster Grouping and Differentiation</a:t>
            </a:r>
            <a:endParaRPr b="1" lang="en-US" sz="3900" spc="-1" strike="noStrike">
              <a:solidFill>
                <a:srgbClr val="330066"/>
              </a:solidFill>
              <a:latin typeface="Arial"/>
            </a:endParaRPr>
          </a:p>
        </p:txBody>
      </p:sp>
      <p:sp>
        <p:nvSpPr>
          <p:cNvPr id="161" name="PlaceHolder 2"/>
          <p:cNvSpPr>
            <a:spLocks noGrp="1"/>
          </p:cNvSpPr>
          <p:nvPr>
            <p:ph/>
          </p:nvPr>
        </p:nvSpPr>
        <p:spPr>
          <a:xfrm>
            <a:off x="456840" y="1719360"/>
            <a:ext cx="8534520" cy="4411440"/>
          </a:xfrm>
          <a:prstGeom prst="rect">
            <a:avLst/>
          </a:prstGeom>
          <a:noFill/>
          <a:ln w="0">
            <a:noFill/>
          </a:ln>
        </p:spPr>
        <p:txBody>
          <a:bodyPr lIns="90000" rIns="90000" tIns="46800" bIns="46800" anchor="t">
            <a:normAutofit fontScale="98000"/>
          </a:bodyPr>
          <a:p>
            <a:pPr marL="335880" indent="-3358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uccess of Cluster Grouping is contingent upon curriculum differentiation.</a:t>
            </a:r>
            <a:endParaRPr b="0" lang="en-US" sz="2600" spc="-1" strike="noStrike">
              <a:solidFill>
                <a:srgbClr val="000000"/>
              </a:solidFill>
              <a:latin typeface="Arial"/>
            </a:endParaRPr>
          </a:p>
          <a:p>
            <a:pPr marL="3358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35880" indent="-3358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ording to Winebrenner and Brulles (2008), differentiation activities should be open to ALL students in the class (p. 20).</a:t>
            </a:r>
            <a:endParaRPr b="0" lang="en-US" sz="2600" spc="-1" strike="noStrike">
              <a:solidFill>
                <a:srgbClr val="000000"/>
              </a:solidFill>
              <a:latin typeface="Arial"/>
            </a:endParaRPr>
          </a:p>
          <a:p>
            <a:pPr marL="3358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5880" indent="-3358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achers can use pre-tests or other forms of assessment to determine which students are ready for extension activities and which students need more work with a given concept. </a:t>
            </a:r>
            <a:endParaRPr b="0" lang="en-US" sz="26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ebrenner, S. &amp; Brulles, D. (2008). The cluster grouping handbook. Minneapolis, MN: Free Spirit Publishing Inc.</a:t>
            </a:r>
            <a:endParaRPr b="0" lang="en-US" sz="1200" spc="-1" strike="noStrike">
              <a:solidFill>
                <a:srgbClr val="000000"/>
              </a:solidFill>
              <a:latin typeface="Arial"/>
            </a:endParaRPr>
          </a:p>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5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1920" y="228600"/>
            <a:ext cx="8001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uster Grouping and Differentiation</a:t>
            </a:r>
            <a:endParaRPr b="1" lang="en-US" sz="3900" spc="-1" strike="noStrike">
              <a:solidFill>
                <a:srgbClr val="330066"/>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ve Elements of Differentiation</a:t>
            </a:r>
            <a:endParaRPr b="0" lang="en-US" sz="3600" spc="-1" strike="noStrike">
              <a:solidFill>
                <a:srgbClr val="000000"/>
              </a:solidFill>
              <a:latin typeface="Arial"/>
            </a:endParaRPr>
          </a:p>
          <a:p>
            <a:pPr marL="571680" indent="-571680">
              <a:lnSpc>
                <a:spcPct val="90000"/>
              </a:lnSpc>
              <a:spcBef>
                <a:spcPts val="64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ent</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duct</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rning Environment</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essment</a:t>
            </a:r>
            <a:endParaRPr b="0" lang="en-US" sz="2600" spc="-1" strike="noStrike">
              <a:solidFill>
                <a:srgbClr val="000000"/>
              </a:solidFill>
              <a:latin typeface="Arial"/>
            </a:endParaRPr>
          </a:p>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ebrenner, S. &amp; Brulles, D. (2008). The cluster grouping handbook. Minneapolis, MN: Free Spirit Publishing Inc.</a:t>
            </a:r>
            <a:endParaRPr b="0" lang="en-US" sz="1200" spc="-1" strike="noStrike">
              <a:solidFill>
                <a:srgbClr val="000000"/>
              </a:solidFill>
              <a:latin typeface="Arial"/>
            </a:endParaRPr>
          </a:p>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iscussion</a:t>
            </a:r>
            <a:endParaRPr b="1" lang="en-US" sz="3900" spc="-1" strike="noStrike">
              <a:solidFill>
                <a:srgbClr val="330066"/>
              </a:solidFill>
              <a:latin typeface="Arial"/>
            </a:endParaRPr>
          </a:p>
        </p:txBody>
      </p:sp>
      <p:sp>
        <p:nvSpPr>
          <p:cNvPr id="165" name="PlaceHolder 2"/>
          <p:cNvSpPr>
            <a:spLocks noGrp="1"/>
          </p:cNvSpPr>
          <p:nvPr>
            <p:ph/>
          </p:nvPr>
        </p:nvSpPr>
        <p:spPr>
          <a:xfrm>
            <a:off x="228240" y="1676520"/>
            <a:ext cx="8915400" cy="441144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 the wiki, please respond to the following prompt: </a:t>
            </a:r>
            <a:endParaRPr b="0" lang="en-US" sz="30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Research shows teachers are more likely to differentiate curriculum when Gifted students are grouped together in an otherwise heterogeneously mixed class. Do you agree with this assertion? Would you be interested in implementing the Schoolwide Cluster Model? Why or why no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5T15:03:06Z</dcterms:created>
  <dc:creator>Whitney Simmemon</dc:creator>
  <dc:description/>
  <dc:language>en-US</dc:language>
  <cp:lastModifiedBy>Whitney Simmemon</cp:lastModifiedBy>
  <dcterms:modified xsi:type="dcterms:W3CDTF">2012-02-05T19:59:57Z</dcterms:modified>
  <cp:revision>3</cp:revision>
  <dc:subject/>
  <dc:title>What is Cluster Grouping?</dc:title>
</cp:coreProperties>
</file>